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.png" ContentType="image/png"/>
  <Override PartName="/ppt/media/image27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14.wmf" ContentType="image/x-wmf"/>
  <Override PartName="/ppt/media/image6.png" ContentType="image/png"/>
  <Override PartName="/ppt/media/image11.png" ContentType="image/png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.png" ContentType="image/png"/>
  <Override PartName="/ppt/media/image29.wmf" ContentType="image/x-wmf"/>
  <Override PartName="/ppt/media/image1.png" ContentType="image/png"/>
  <Override PartName="/ppt/media/image15.wmf" ContentType="image/x-wmf"/>
  <Override PartName="/ppt/media/image16.wmf" ContentType="image/x-wmf"/>
  <Override PartName="/ppt/media/image28.png" ContentType="image/png"/>
  <Override PartName="/ppt/media/image7.jpeg" ContentType="image/jpeg"/>
  <Override PartName="/ppt/media/image20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12.png" ContentType="image/png"/>
  <Override PartName="/ppt/media/image23.jpeg" ContentType="image/jpeg"/>
  <Override PartName="/ppt/media/image25.wmf" ContentType="image/x-wmf"/>
  <Override PartName="/ppt/media/image24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196-7248-4263-810D-E80EE155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D8ED-A3A9-4C06-BD88-EF74101B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E391-3D10-4E9A-9339-C666223D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897-D6B9-42E6-9518-BEADE5CF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167C-34D4-4D14-8CC7-BC4C0C15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A47C-0D0D-4B9D-B068-799F47C6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95A5-592A-407A-A4CC-A72E118A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13F-C72A-441D-A87F-848F8EB1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535-A3E0-442F-8352-085FFAB5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069F-EA41-4D0D-BAB7-FA0CAE5F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16EC-2CF7-49D8-9FCE-EAAAD08F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CE2-64FB-4359-B5B5-22C605D1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6074-5261-407E-98F4-33DC3452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2217960" y="533520"/>
            <a:ext cx="49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81080" y="2514600"/>
            <a:ext cx="57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ФИЗИОЛОГИЈА БУБРЕГ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797720" y="5715000"/>
            <a:ext cx="34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Проф. др Сузана Пант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2444040" y="3505320"/>
            <a:ext cx="441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7. наставна јединица (седма недељ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751280" y="914040"/>
            <a:ext cx="439272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Фактори који утичу на пропуст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љив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ост гломерулске мембран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величин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честице (дијаметар пора гломерулске мембране је 8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наелектрисањ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честице (базална мембрана садржи негативно наелектрисане протеогликане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пителн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ћелиј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е су такођ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наелектрисане 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Албумини имају дијаметар од 6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али не пролазе гломерулску мембрану због тога што су негативно наелектрисан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Састав гломерулског филтрата одговара саставу плазме без протеина (мање од 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0.3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g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/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Times New Roman"/>
              </a:rPr>
              <a:t>l</a:t>
            </a:r>
            <a:r>
              <a:rPr b="0" lang="sr-Latn-CS" sz="1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460836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324000" y="692280"/>
            <a:ext cx="8534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Г</a:t>
            </a:r>
            <a:r>
              <a:rPr b="1" lang="sr-Latn-CS" sz="3600" spc="-1" strike="noStrike">
                <a:solidFill>
                  <a:srgbClr val="ffff00"/>
                </a:solidFill>
                <a:latin typeface="Times New Roman"/>
              </a:rPr>
              <a:t>ломерулск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а филтрација</a:t>
            </a: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прва фаза стварања мокра</a:t>
            </a:r>
            <a:r>
              <a:rPr b="0" lang="sr-Latn-CS" sz="2800" spc="-1" strike="noStrike">
                <a:solidFill>
                  <a:srgbClr val="ffff00"/>
                </a:solidFill>
                <a:latin typeface="Times New Roman"/>
              </a:rPr>
              <a:t>ћ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</a:rPr>
              <a:t>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04920" y="2362320"/>
            <a:ext cx="8534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ормалним физиолошким условима брзин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чин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гломерулске филтрације код одрасле особе износи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5 ml/mi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ли oк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80 литара на да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5219640" cy="613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Силе које утичу на филтрацију течности у гломерулима бубрег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хидростатски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притисак у гломерул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ским капиларима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(повећава филтрациј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– средња вредност гломерулског притиска износи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6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хидростатски 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притисак у Bowman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овој капсули</a:t>
            </a:r>
            <a:r>
              <a:rPr b="0" lang="sr-Latn-CS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(смањује филтрациј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– ок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18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олоидно-осмотски притисак плазме </a:t>
            </a:r>
            <a:r>
              <a:rPr b="0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(смањује филтрациј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– средња вредност око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32 mmHg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(28 mmHg на почетку и 36 mmHg на крају гломерулских капилара због филтрирања 20% плазм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колоидно-осмотски притисак у Bowman</a:t>
            </a:r>
            <a:r>
              <a:rPr b="0" lang="sr-C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овој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капсули износи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mmHg (нема филтрације протеина у гломерулима</a:t>
            </a: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148360" y="620640"/>
            <a:ext cx="3995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Силе које утичу на филтрацију течности у гломерулима бубрег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Филтрациони притисак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(нето-притисак који узрокује филтрацију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0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Филтрациони коефицијент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12.5 ml/мин/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Величина гломерулске филтрације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: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25 ml/мин (18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днев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Фракција филтрац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величина гломерулске филтрације : проток плазме кроз бубреге 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.2 (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20%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5148360" y="620640"/>
            <a:ext cx="3995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33160" y="28195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Квантитативни односи тубулских процеса за поједине супста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52280" y="228600"/>
            <a:ext cx="8839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Тубулска реапсорп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Филтрација=брзина гломерул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ск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е филтрације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плазма концент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Реапсорпција – селективан процес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28600" y="3276720"/>
            <a:ext cx="8686800" cy="32004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4"/>
          <p:cNvSpPr/>
          <p:nvPr/>
        </p:nvSpPr>
        <p:spPr>
          <a:xfrm>
            <a:off x="685800" y="22096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(у нормалним, физиолошким условима износ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ко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178.5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/д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04560" y="114300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А. Трансцелуларни транспорт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активни транспорти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а) примарни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Nа,К-АТP-аза, секреција H јона (завршни дистални тубул))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б) секундарн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транспорт глукозе или аминокиселина са натријумом, контратранспорт H/Nа јона (проксимални тубули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ffffff"/>
                </a:solidFill>
                <a:uFillTx/>
                <a:latin typeface="Times New Roman"/>
              </a:rPr>
              <a:t>пасивни транспорт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1219320" y="228600"/>
            <a:ext cx="67784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Путеви транспорта воде и електролита из лумена бубрежних тубула у интерстицијум и перитубуларне капиларе (реапсорпција)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1"/>
          <a:stretch/>
        </p:blipFill>
        <p:spPr>
          <a:xfrm>
            <a:off x="4648320" y="3429000"/>
            <a:ext cx="3962160" cy="342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388620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Б. Парацелуларни транспорт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транспорт кроз просторе између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Ц. Ултрафилтрација (масовни ток) –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након апсорпције кроз тубулске епителне ћелије у интерстицијумску течност вода и растворене супстанце се остатак пута транспортују кроз зидове перитубулских капилара у крв ултрафилтрацијом која је под контролом хидростатских и колоидно осмотских сила које делују на мембрану капил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114800" y="1066680"/>
            <a:ext cx="5029200" cy="405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54100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Arial"/>
              </a:rPr>
              <a:t>Тубулски транспортни максимум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ј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максимална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брзин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кој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ом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се нек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супстанц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у тубулима може реапсорбовати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(зависи од сатурације специфичних транспортних систе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0" y="2438280"/>
            <a:ext cx="54864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Бубрежни п</a:t>
            </a: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раг" за супстанце које имају тубул</a:t>
            </a:r>
            <a:r>
              <a:rPr b="1" lang="sr-CS" sz="1800" spc="-1" strike="noStrike" u="sng">
                <a:solidFill>
                  <a:srgbClr val="ffffff"/>
                </a:solidFill>
                <a:uFillTx/>
                <a:latin typeface="Arial"/>
              </a:rPr>
              <a:t>ски</a:t>
            </a:r>
            <a:r>
              <a:rPr b="1" lang="sr-Latn-CS" sz="1800" spc="-1" strike="noStrike" u="sng">
                <a:solidFill>
                  <a:srgbClr val="ffffff"/>
                </a:solidFill>
                <a:uFillTx/>
                <a:latin typeface="Arial"/>
              </a:rPr>
              <a:t> транспортни максимум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ставља ниво у плазми на коме с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упстанц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ви пут појављује у урину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концентрација у филтрату ће бити изна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брежног праг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4419720"/>
            <a:ext cx="510552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лукоза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(пример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Транспортни максимум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37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7.77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mo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(Т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Праг за глукозу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                 - 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200 mg/100 m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.22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mo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убулско оптерећење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sr-CS" sz="16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glu: 125 mg/mi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94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mol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334120" y="1523880"/>
            <a:ext cx="380988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2517480" y="304920"/>
            <a:ext cx="43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ТРАНСПОРТНИ МАКСИМ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114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ffff00"/>
                </a:solidFill>
                <a:uFillTx/>
                <a:latin typeface="Arial"/>
              </a:rPr>
              <a:t>Функције проксималног туб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есорпција 2/3 укупне количине воде и електрол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ресорпција Na, Cl, бикарбоната, К,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тпуна ресорпција глукозе и аминокиселина (котранспо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екреција H јона (секундарни активни транспорт – контратранспорт са 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екреција органских киселина и б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асивна апсорпција в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419720" y="838080"/>
            <a:ext cx="4446360" cy="4496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4724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Функције танког сегмента (десцендентног и асцендентног) Хенле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о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ве петље: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ма активног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есцендентни део танког сегмента Хенлеове петље је високопермеабилан за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асцендентни део танког сегмента Хенлеове је непермеабилан за в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ФУНКЦИОНАЛНО-АНАТОМСКЕ ОСНОВЕ</a:t>
            </a:r>
            <a:br>
              <a:rPr sz="2400"/>
            </a:b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РЕНАЛНОГ СИСТЕМА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634160" cy="4344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47242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Функције дебелог сегмента Хенле</a:t>
            </a:r>
            <a:r>
              <a:rPr b="1" lang="sr-CS" sz="2000" spc="-1" strike="noStrike" u="sng">
                <a:solidFill>
                  <a:srgbClr val="ffff00"/>
                </a:solidFill>
                <a:uFillTx/>
                <a:latin typeface="Arial"/>
              </a:rPr>
              <a:t>о</a:t>
            </a:r>
            <a:r>
              <a:rPr b="1" lang="sr-Latn-CS" sz="2000" spc="-1" strike="noStrike" u="sng">
                <a:solidFill>
                  <a:srgbClr val="ffff00"/>
                </a:solidFill>
                <a:uFillTx/>
                <a:latin typeface="Arial"/>
              </a:rPr>
              <a:t>ве петље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секундарни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ктивни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транспор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К</a:t>
            </a:r>
            <a:r>
              <a:rPr b="0" lang="sr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sr-CS" sz="2000" spc="-1" strike="noStrike" baseline="30000">
                <a:solidFill>
                  <a:srgbClr val="fffff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што је посредовано 1-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Na, 2-Cl, 1 K-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отранспор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у дебелом асцендентном краку постоји и значајна парацелуларна реапсорпција катјона: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Mg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Ca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Na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K</a:t>
            </a:r>
            <a:r>
              <a:rPr b="0" lang="sr-Latn-CS" sz="20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дебели асцендентни крак је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епропус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за воду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убулска течност постаје веома разређена у свом току према дисталном тубулу.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начај за механизме који контролишу концент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вање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ур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28240" y="9140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Дистални тубул има два функционална де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рани дистални тубул (дилуциони сегмен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завршни дистални тубул и кортикални сабирни кана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Функције дилуционог сегмен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сте функције као дебели сегмент Хенл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е петље (активни транспор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, К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, непропуст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за вод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49568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4419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Функције завршног дисталног тубу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тпуно непропуст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за у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активна ресорпциј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а и секреција К 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у главним ћелијама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завршног дисталног тубул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– значај у контроли концентрације ових јон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алдостерон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стимулише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Na-K-ATP-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азне пумпу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секрециј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јона (примарни транспорт – интеркалатне ћелије), концентрисање до 1000x – значај у контроли ацидобазне равноте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тпуно непропуст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љив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за воду без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– у присуству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H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постаје пропу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48320" y="304920"/>
            <a:ext cx="4495680" cy="6172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3123720"/>
            <a:ext cx="24382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Транспорт воде и електролита из лумена бубрежних тубула у интерстицијум и перитубулске капиларе (силе које детерминишу обим враћања у кр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04920" y="304920"/>
            <a:ext cx="8534160" cy="22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Регулација тубулске реапсорпције</a:t>
            </a:r>
            <a:r>
              <a:rPr b="0" lang="sr-C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у нормалним, физиолошким условима износи 178.5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L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/д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Гломерулотубулска равнотежа (способност тубула да повећају брзину реапсорпције у одговору на повећање тубулског оптерећењ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Физичке силе перитубулских капилара и бубрежне интерстицијумске те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6095880" cy="4057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228600" y="609480"/>
            <a:ext cx="8686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Бубрежни клиренс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C - clear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чистити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је: запремина плазме која се потпуно очисти од неке супстанце бубрезима у јединици времена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(ml/min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лиренс плазме за неку супстанцу се израчунава по форм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4"/>
          <p:cNvGraphicFramePr/>
          <p:nvPr/>
        </p:nvGraphicFramePr>
        <p:xfrm>
          <a:off x="2819520" y="2895480"/>
          <a:ext cx="304776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895480"/>
                    <a:ext cx="304776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5"/>
          <p:cNvSpPr/>
          <p:nvPr/>
        </p:nvSpPr>
        <p:spPr>
          <a:xfrm>
            <a:off x="2438280" y="4876920"/>
            <a:ext cx="5562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(ml/min)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клире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(mg/ml)- концентрација супстанце у мокраћ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V (ml/min)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- излучена мокраћа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sr-Latn-C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(mg/ml)- концентрација супстанце у плазм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4114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 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супстанца која се само филтрира (нема реапсорпције ни секреције)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инулин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креатинин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супстанца која се филтрира и (делимично) реапсорбуј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електролити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Latn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супстанца која се филтрира и (потпуно) реапсорбуј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глукоз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аминокисел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супстанца која се филтрира и (потпуно) секретује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имер: 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парааминохипурна киселин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H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)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ра протока плазме кроз бубреге (око 625 мл/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4724280" y="457200"/>
            <a:ext cx="4191120" cy="5486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304920" y="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Клинички важни килрен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sr-CS" sz="1800" spc="-1" strike="noStrike">
                <a:solidFill>
                  <a:srgbClr val="ffff00"/>
                </a:solidFill>
                <a:latin typeface="Times New Roman"/>
              </a:rPr>
              <a:t>Слика бубрежне обраде четири хипотетичке супстанце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6066000"/>
            <a:ext cx="87631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За клиничко одређивање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велич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ин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 (брзине)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гломерулске филтрације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најчешће се употребљава </a:t>
            </a:r>
            <a:r>
              <a:rPr b="1" lang="sr-CS" sz="1400" spc="-1" strike="noStrike">
                <a:solidFill>
                  <a:srgbClr val="ffffff"/>
                </a:solidFill>
                <a:latin typeface="Times New Roman"/>
              </a:rPr>
              <a:t>креатинин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иако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није савршен маркер за величину гломерулске филтрације зато што се у малој количини секретује у тубулима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40672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Бубрежни механизам за излучивање разређене мокраћ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реапсорпцију електролита која почиње у дебелом сегменту асцендентног крака Хенлејеве петље не прати реапсорпција воде (филтрат се дилуи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како у крви нема 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ADH</a:t>
            </a: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 и завршни дистални тубул и кортикални сабирни каналићи остају непропустни за воду (филтрат се и даље дилуира због реапсорпције електроли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Arial"/>
              </a:rPr>
              <a:t>излучује се разређена мокраћ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4038480" y="1828800"/>
            <a:ext cx="4969080" cy="43927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681840" y="838080"/>
            <a:ext cx="77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ОСНОВНЕ КОМПОНЕНТЕ ПРОСТИВСТРУЈНОГ МЕХ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7920" y="20574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противструјни умноживач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-противструјни измењив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304920" y="1066680"/>
            <a:ext cx="853416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Arial"/>
              </a:rPr>
              <a:t>Бубрежни механизми за излучивање концентрисане мокраће</a:t>
            </a: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 - противструјни механизам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одвија се у медули бубрега уз учешће јукстамедуларних нефрона и vasa recta) обухва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914400" y="2890800"/>
            <a:ext cx="7515360" cy="3814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605520" y="533520"/>
            <a:ext cx="775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ОСНОВНЕ КОМПОНЕНТЕ ПРОСТИВСТРУЈНОГ МЕХ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28600" y="990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Стварање хиперосмоларности у медуларном интерстицију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активни транспорт јона из тубула у интерстицијум у дебелом сегменту усходног крака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Хенлеове петље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и дилуционом сегменту дисталног тубула (непропустни за воду) - </a:t>
            </a: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противструјни умножи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активни транспорт јона из тубула у интерстицијум у сабирним це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пасивна дифузија урее из сабирних цеви у интерстициј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33520" y="228600"/>
            <a:ext cx="8076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ПРОТИВСТРУЈНИ МЕХАНИЗАМ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imes New Roman"/>
              </a:rPr>
              <a:t>ПРОТИВСТРУЈНИ УМНОЖИВ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914400" y="2890800"/>
            <a:ext cx="7515360" cy="381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4114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. Повећање пропустљивости за воду епителних ћелија завршног дисталног тубула, кортикалних и медуларних сабирних каналића под дејством AD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3. Задржавање вишка електролита у медуларном интерстициј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04920" y="2895480"/>
            <a:ext cx="38862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противструјни измењивачки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механизам у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</a:rPr>
              <a:t>vasa recta</a:t>
            </a:r>
            <a:r>
              <a:rPr b="0" lang="sr-Latn-C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- обавезна запремина мокра</a:t>
            </a:r>
            <a:r>
              <a:rPr b="0" lang="sr-Latn-CS" sz="20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е: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0.5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ли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slika 37-16"/>
          <p:cNvPicPr/>
          <p:nvPr/>
        </p:nvPicPr>
        <p:blipFill>
          <a:blip r:embed="rId1"/>
          <a:stretch/>
        </p:blipFill>
        <p:spPr>
          <a:xfrm>
            <a:off x="4343400" y="380880"/>
            <a:ext cx="3816360" cy="4876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7224840" y="4038480"/>
            <a:ext cx="1919160" cy="281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3690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Функције бубре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Излучивање највеће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ела крајњих продуката метабо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ација запремине и састава телесних течности (осмолалности телесних тецности и концентрације електроли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ација ацидо-базне равноте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гулација артеријског прит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ција хормона, метаболизам и екскре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ликонеоге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3995640" y="765000"/>
            <a:ext cx="4937400" cy="512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4788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Механизам повећања концентрације урее у мокраћи и медуларном интерстицијуму</a:t>
            </a:r>
            <a:r>
              <a:rPr b="1" lang="sr-CS" sz="1800" spc="-1" strike="noStrike">
                <a:solidFill>
                  <a:srgbClr val="ffffff"/>
                </a:solidFill>
                <a:latin typeface="Times New Roman"/>
              </a:rPr>
              <a:t>-уреа доприноси (40%) хиперосмоларности бубрежног медуларног интерстицијума и концентрисању мокраће</a:t>
            </a:r>
            <a:r>
              <a:rPr b="1" lang="sr-Latn-CS" sz="1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дебео крак Хенлеове петље, дистални тубул и кортикални сабирни тубул су релативно непропустљиви за уреу и овде се реапсорбује мало ур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медуларни део сабирних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је умерено пропустан за уре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пропустност кортикалних сабирних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за воду у присуству ADH се повећава више него за уреу (за уреу су скоро непропустљиви) па се концентрација урее у сабирним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им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додатно повећа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у присуству ADH пропустност медуларних сабирних </a:t>
            </a: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каналића</a:t>
            </a: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 за уреу се повећава и уреа дифундује (услед концентрационог градијента) у интерстицијум меду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ffffff"/>
                </a:solidFill>
                <a:latin typeface="Times New Roman"/>
              </a:rPr>
              <a:t>умерени део урее, који се креће у медуларни интерстицијум, на крају дифундује у танак крак Хенлеове петље, па пролази навише кроз асцедентни крак и кроз систем тубула опет назад у медуларни сабирни канал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4952880" y="404640"/>
            <a:ext cx="4091040" cy="444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6012000" y="4941720"/>
            <a:ext cx="3024000" cy="14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2057040"/>
            <a:ext cx="4952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Times New Roman"/>
              </a:rPr>
              <a:t>Систем осмонатријумских рецептора и ADH</a:t>
            </a: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(механиза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повећање осмоларности екстрацелуларне течности подражава осморецепторе смештене у AV3V подруч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сморецептори подражавају супраоптичка једра хипоталамуса (вероватно изазивају и осећај жеђ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сморецептори стварају ADH који се ослобађа у циркулацију у неурохипофи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304920" y="45720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00"/>
                </a:solidFill>
                <a:latin typeface="Arial"/>
              </a:rPr>
              <a:t>Механизми за контролу осмоларности и концентрације натријума у екстрацелуларној течност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181480" y="685800"/>
            <a:ext cx="3711600" cy="524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4924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ADH долази до бубрега и везује се за базолатерални део мембране епителних ћелија сабирних канал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активира се аденил-цикл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повећава се концентрација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cAMP дифундује до луминалне мембране и узрокује 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транспорт</a:t>
            </a: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 везикула</a:t>
            </a:r>
            <a:r>
              <a:rPr b="0" lang="sr-CS" sz="1800" spc="-1" strike="noStrike">
                <a:solidFill>
                  <a:srgbClr val="ffffff"/>
                </a:solidFill>
                <a:latin typeface="Times New Roman"/>
              </a:rPr>
              <a:t> (имају аквапорин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везикуле омогућавају транспорт воде кроз епителне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imes New Roman"/>
              </a:rPr>
              <a:t>вода се реапсорбује у екстрацелуларну течност и укупна осмоларност се враћа на жељену вред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5410080" y="333360"/>
            <a:ext cx="3435480" cy="652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актори који утичу на секрецију AD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561080" cy="450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Фактори који утичу на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контролу жеђи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8164440" cy="373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228600"/>
            <a:ext cx="408780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ФУНКЦИОНАЛНА АНАТОМИЈА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1" lang="sr-CS" sz="1800" spc="-1" strike="noStrike">
                <a:solidFill>
                  <a:srgbClr val="ffff00"/>
                </a:solidFill>
                <a:latin typeface="Arial"/>
              </a:rPr>
              <a:t>нефрон</a:t>
            </a: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Нефрон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– основна функционалана јединица бубрега (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постоји 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о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1 000 000 нефрона у једном бубрег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кон 40. год., број функционалних нефрона се смањује за око 10% сваких 10 год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Делови нефр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Гломерул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роз који се филтрира велика количина течности из крви)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Symbol"/>
                <a:ea typeface="Symbol"/>
              </a:rPr>
              <a:t>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Тубулски систем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у којем се филтрирана течност претвара у мокраћу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4135320" y="762120"/>
            <a:ext cx="5008680" cy="5543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1219320"/>
            <a:ext cx="44640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Гломерул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 састоји од мреже разгранатих, анастомозирајућих капилара који у поређењу са другим капиларним мрежама има висок хидростатски притисак (око 60 mmHg) и смештен је у B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man-овој капсу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ферентна артериола (крв улази у гломеру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еферентна артериола (крв излази из гломеру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800600" y="549360"/>
            <a:ext cx="4343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8920" y="764640"/>
            <a:ext cx="424044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Arial"/>
              </a:rPr>
              <a:t>Тубулски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проксимални туб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Хенл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а петљ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а. десцендентни (танки)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б. асцендентни (танки) сег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в. асцендентни (дебели) сегмент (на завр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етку одмах до проксималног дела дисталног тубула се налази macula den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дистални туб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бирни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убу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кортикални сабирни кана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медуларни сабирни кана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800600" y="549360"/>
            <a:ext cx="4343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3887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Врсте неф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00"/>
                </a:solidFill>
                <a:latin typeface="Arial"/>
              </a:rPr>
              <a:t>кортикални нефрони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(80%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имају кратке Хенлеове петље које продиру само делимично у медул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ункција у 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стварањ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00"/>
                </a:solidFill>
                <a:latin typeface="Arial"/>
              </a:rPr>
              <a:t>јукстамедуларни нефрони</a:t>
            </a: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(20%), имају дуге Хенлеове петље које се протежу дубоко у медулу – функција: стварање и концентрисање мокра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Карактеристи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дугачки танки сегмент Хенлеове пет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- vasa recta (специјализовани перитубулски капилари који се спуштају дубо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у медулу пратећи Хенлеову петљ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191120" y="762120"/>
            <a:ext cx="4706640" cy="547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1752480"/>
            <a:ext cx="464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Екскреција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– излучивањ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(мокраћни канали) мокраће у бубрежном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систем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је резултат три бубрежна процес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1. филтрација (гломеру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2. реапсорп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3. секреција (тубул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6920" y="6019920"/>
            <a:ext cx="904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Уринарна е</a:t>
            </a:r>
            <a:r>
              <a:rPr b="0" lang="sr-Latn-CS" sz="2600" spc="-1" strike="noStrike">
                <a:solidFill>
                  <a:srgbClr val="ffff00"/>
                </a:solidFill>
                <a:latin typeface="Times New Roman"/>
              </a:rPr>
              <a:t>кскреција</a:t>
            </a:r>
            <a:r>
              <a:rPr b="0" lang="ru-RU" sz="2600" spc="-1" strike="noStrike">
                <a:solidFill>
                  <a:srgbClr val="ffff00"/>
                </a:solidFill>
                <a:latin typeface="Times New Roman"/>
              </a:rPr>
              <a:t> = филтрација – реапсорпција + секре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4105080" cy="465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Arial"/>
              </a:rPr>
              <a:t>ОСНОВНЕ КОМПОНЕНТЕ БУБРЕЖНЕ ФУН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133720" y="380520"/>
            <a:ext cx="48765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Функционална грађа</a:t>
            </a:r>
            <a:r>
              <a:rPr b="1" lang="sr-C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Arial"/>
              </a:rPr>
              <a:t>гломерулске мемб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1219320"/>
            <a:ext cx="40384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Гломерулска капиларна мембрана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је слична мембрани осталих капилара с тим што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ма три слој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а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ндотел капилар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фенестриран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б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базалну мембрану 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састављена од мреже колагена и протеогликанских филамената који с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наелектрисан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слој епителних ћелија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(имају процепе тзв. пукотинасте поре 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су наелектрисане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slika 37-02"/>
          <p:cNvPicPr/>
          <p:nvPr/>
        </p:nvPicPr>
        <p:blipFill>
          <a:blip r:embed="rId1"/>
          <a:stretch/>
        </p:blipFill>
        <p:spPr>
          <a:xfrm>
            <a:off x="4419720" y="1295280"/>
            <a:ext cx="4398840" cy="40896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4038480" y="5638680"/>
            <a:ext cx="51055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Слика: 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Структу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гломерула.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Пресек кроз васкуларни пол који показује капиларну петљу. 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Б) </a:t>
            </a: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Однос мезангијалних ћелија</a:t>
            </a:r>
            <a:r>
              <a:rPr b="1" lang="sr-C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и подоцита гломерулских капилара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В)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Детаљ како подоцити образују прорезе на базалној ламини, и однос између ламине и ендотела капилара. </a:t>
            </a: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Г)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Увећање правоугаоника уцртаног на слици В да би се приказали израштаји подоцита. Нејасан материјал на њиховим </a:t>
            </a:r>
            <a:r>
              <a:rPr b="0" lang="sr-CS" sz="1000" spc="-1" strike="noStrike">
                <a:solidFill>
                  <a:srgbClr val="ffffff"/>
                </a:solidFill>
                <a:latin typeface="Arial"/>
              </a:rPr>
              <a:t>површинама представља гломерулске полианјоне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7:57:18Z</dcterms:created>
  <dc:creator>PC HOME</dc:creator>
  <dc:description/>
  <dc:language>en-US</dc:language>
  <cp:lastModifiedBy>SP</cp:lastModifiedBy>
  <dcterms:modified xsi:type="dcterms:W3CDTF">2019-10-29T12:46:24Z</dcterms:modified>
  <cp:revision>53</cp:revision>
  <dc:subject/>
  <dc:title>Slide 1</dc:title>
</cp:coreProperties>
</file>